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095C4-2960-4E73-8055-B955331AA43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9BB80-02B5-4C7C-AC82-0F759C997D0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4BC0B-F246-45D1-A5F3-2D910BC6BB5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1249E-3E95-4A81-AC02-E03CA024409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971E8-5849-4FE2-A799-3454133968D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10B0D-6E2F-4FBE-A9A6-E38B6D9F9B6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4031C-0E4D-4A4F-828A-D8B3C61E54B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B3ACC-94DF-48E1-93F9-F328149DE72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74018-975C-4A0A-8DD2-7B430F315FB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BB14F-7325-40C8-8B6F-836696D96C2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442F2-90FD-40ED-935F-C851B05AB63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6E8BA-FD85-4F8B-8584-A00F3077733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E71FF-4557-4BA4-BFD7-3E50CC8EB64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AA9FC-4529-4B80-861E-A417EAEBCC2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0ED3D-CA8C-4B30-A97E-6BFB92F8592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516B3-8581-44B5-BE36-A39A8427BF0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63E54-B9CE-4624-9B80-F7439F145E9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F1446-4C72-479A-91B7-5EFBD1AE83E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C0AEC-7390-43D6-9D3A-7CB954D06BC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A52BB-194A-40D7-A274-F646ED5ED7A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7D7C3-2D3C-4885-BA43-B9F0869632E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9B9FF-B0CF-4A12-AC15-4DB25CAE12C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77546-C42D-4E1D-969C-2223FD56591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56865-4904-4D22-8EAA-E89C5B0E60C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2FB92-124E-4F57-A202-1FE0EF29359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7F8F-0862-4909-97AA-2C8C4A20F0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AE36-5697-4CF5-9D4E-EBF8CFED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B1BA-AB3C-40D5-849E-776722C6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AAF18-3DE4-445B-8B0D-73870207E7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1162A-0581-4164-9978-4FCE8421DD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48BC6-F2BA-401D-8CEC-7F117961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F652D-9DEB-48A1-9C46-3BE0F6CD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5ACD2-77A7-4D36-9EC2-5DDFE278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9A467-F937-480A-A3FD-A0D6F843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917F7-CB20-49E9-BB56-48951C53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F13D6-961B-4C6B-9208-E75E0064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EEFB-564E-4C43-8EE6-2344588E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B030F-CA50-4BAD-B4D7-B45315B3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8F989-864F-4DD3-B05C-A782612D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934D1-4BE9-4D0C-BEB4-29BE4070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E7F66-ADD4-4B65-9A2E-39DA66AA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97A4C-F333-4F4D-B3DF-97C7A59FC4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BCBC-00AD-478E-90CB-9117F26E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67ED-23DA-4AAC-98BD-8E349821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CA1D-2AC5-4128-A9A9-8E5412C8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6C78-3F91-4C21-8F5A-08D8E1BD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7677-AE1F-4648-A558-A6620312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5CCE-F3D1-4FD4-884A-3F2A3671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6C1B-3A4D-457C-8256-A974D992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A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20/05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A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72788C6-774A-47BE-B0A0-4435A3DBDD7F}" type="slidenum">
              <a:rPr b="0" lang="en-A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A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20/05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A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C5C941-528C-48D4-8757-C13AB8EE5339}" type="slidenum">
              <a:rPr b="0" lang="en-A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346480" y="28440"/>
            <a:ext cx="4451040" cy="990720"/>
          </a:xfrm>
          <a:prstGeom prst="rect">
            <a:avLst/>
          </a:prstGeom>
          <a:ln w="0">
            <a:noFill/>
          </a:ln>
        </p:spPr>
      </p:pic>
      <p:sp>
        <p:nvSpPr>
          <p:cNvPr id="90" name="Line 2"/>
          <p:cNvSpPr/>
          <p:nvPr/>
        </p:nvSpPr>
        <p:spPr>
          <a:xfrm>
            <a:off x="1600200" y="3124080"/>
            <a:ext cx="5943600" cy="180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6934320" y="3505320"/>
            <a:ext cx="2209680" cy="2735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619280" y="270036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LUMBCO PL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619280" y="3240000"/>
            <a:ext cx="59403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SSISI CENTRE – STAG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30 ROSANNA 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OSANNA, V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O15922 IFO MICROTRAP C/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6119640" y="1873080"/>
            <a:ext cx="2859120" cy="298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1260360" y="1979640"/>
            <a:ext cx="4680000" cy="2340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1440000" y="4722840"/>
            <a:ext cx="52196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FEATURES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• Easily installed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• Smallest watermark approved trap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• Pop up waste</a:t>
            </a:r>
            <a:br>
              <a:rPr sz="1300"/>
            </a:b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• Only to be installed to basins that are connected to floor waste gullies.</a:t>
            </a:r>
            <a:br>
              <a:rPr sz="1200"/>
            </a:br>
            <a:br>
              <a:rPr sz="12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440000" y="360360"/>
            <a:ext cx="5400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820R 820MM SINGLE R/H BOWL&amp;DRAINER 1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24360" y="1800360"/>
            <a:ext cx="3636720" cy="17859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2700360" y="3841920"/>
            <a:ext cx="377964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ingle Bowl &amp; Single Dr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820 x 500 x 19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HB M820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O6861 IFO SIGN INCREASED HEIGHT S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6411960" y="2879640"/>
            <a:ext cx="2589120" cy="270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3"/>
          <a:stretch/>
        </p:blipFill>
        <p:spPr>
          <a:xfrm>
            <a:off x="1440000" y="1260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O554-BD1999 TOILET S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6500880" y="3060720"/>
            <a:ext cx="2498760" cy="2338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3"/>
          <a:stretch/>
        </p:blipFill>
        <p:spPr>
          <a:xfrm>
            <a:off x="720720" y="1440000"/>
            <a:ext cx="5759280" cy="4473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1946160" y="2216160"/>
            <a:ext cx="540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3060720" y="378000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3060720" y="3059280"/>
            <a:ext cx="1440" cy="54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879640" y="3600360"/>
            <a:ext cx="720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28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1990800" y="349740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2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1260360" y="3600360"/>
            <a:ext cx="1800" cy="10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1260360" y="2696760"/>
            <a:ext cx="1800" cy="723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1079640" y="341964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4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 flipH="1">
            <a:off x="1438200" y="4859280"/>
            <a:ext cx="5428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2340000" y="4859280"/>
            <a:ext cx="5396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968480" y="477216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9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5580000" y="900000"/>
            <a:ext cx="3419640" cy="2160720"/>
          </a:xfrm>
          <a:prstGeom prst="rect">
            <a:avLst/>
          </a:prstGeom>
          <a:ln w="0">
            <a:noFill/>
          </a:ln>
        </p:spPr>
      </p:pic>
      <p:sp>
        <p:nvSpPr>
          <p:cNvPr id="198" name="Line 2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1440000" y="2700360"/>
            <a:ext cx="5367240" cy="3060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O7472 SIGN BASIN 900 R/H BOWL 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2192400" y="900000"/>
            <a:ext cx="5546520" cy="49039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O96487R SIGN R/H BASIN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4881600" y="179280"/>
            <a:ext cx="3938400" cy="2935440"/>
          </a:xfrm>
          <a:prstGeom prst="rect">
            <a:avLst/>
          </a:prstGeom>
          <a:ln w="0">
            <a:noFill/>
          </a:ln>
        </p:spPr>
      </p:pic>
      <p:sp>
        <p:nvSpPr>
          <p:cNvPr id="211" name="Line 2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3"/>
          <a:stretch/>
        </p:blipFill>
        <p:spPr>
          <a:xfrm>
            <a:off x="1293840" y="2700360"/>
            <a:ext cx="5367240" cy="3060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O7462 SIGN BASIN 900 L/H BOWL 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440000" y="179280"/>
            <a:ext cx="5400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OSG47099-2D-50/50 SENSE BASE CAB 300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O47299 SENSE DRAWER FR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5772240" y="2700360"/>
            <a:ext cx="3047760" cy="2857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3"/>
          <a:stretch/>
        </p:blipFill>
        <p:spPr>
          <a:xfrm>
            <a:off x="1176480" y="1440000"/>
            <a:ext cx="4582800" cy="40528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8"/>
          <p:cNvSpPr/>
          <p:nvPr/>
        </p:nvSpPr>
        <p:spPr>
          <a:xfrm>
            <a:off x="1979640" y="197964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300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060720" y="3600360"/>
            <a:ext cx="7207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748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3959280" y="2109960"/>
            <a:ext cx="53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4859280" y="337032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520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4680000" y="4449600"/>
            <a:ext cx="7207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260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5219640" cy="5400720"/>
          </a:xfrm>
          <a:prstGeom prst="rect">
            <a:avLst/>
          </a:prstGeom>
          <a:ln w="0">
            <a:noFill/>
          </a:ln>
        </p:spPr>
      </p:pic>
      <p:sp>
        <p:nvSpPr>
          <p:cNvPr id="230" name="Line 2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440000" y="360360"/>
            <a:ext cx="540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MS119R AQUABLEND 1000 W/-RBOX 4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219640" y="5219640"/>
            <a:ext cx="720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COL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680000" y="5052960"/>
            <a:ext cx="53964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500720" y="5040360"/>
            <a:ext cx="720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COLD 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240000" y="5195880"/>
            <a:ext cx="9003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WARM 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2519280" y="5195880"/>
            <a:ext cx="720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HO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"/>
          <p:cNvPicPr/>
          <p:nvPr/>
        </p:nvPicPr>
        <p:blipFill>
          <a:blip r:embed="rId3"/>
          <a:stretch/>
        </p:blipFill>
        <p:spPr>
          <a:xfrm>
            <a:off x="5759280" y="2519280"/>
            <a:ext cx="3395880" cy="36165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3"/>
          <p:cNvSpPr/>
          <p:nvPr/>
        </p:nvSpPr>
        <p:spPr>
          <a:xfrm>
            <a:off x="6119640" y="900000"/>
            <a:ext cx="28800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) 790923-AQUA BOX 1000 4 HOLE SINGLE BY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) 671127-LID-AQUABLEND 370X370 REC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440000" y="179280"/>
            <a:ext cx="5219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TMS719R AQUABLEND 1500 W/LOCK S/S CAB REC. 4 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755640" y="900000"/>
            <a:ext cx="9144000" cy="47577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8280360" y="1260360"/>
            <a:ext cx="1260360" cy="304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3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8280360" y="4319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CESS L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780000" y="900000"/>
            <a:ext cx="10792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340000" y="5040360"/>
            <a:ext cx="720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HO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060720" y="5040360"/>
            <a:ext cx="9000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WARM 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4859280" y="5375160"/>
            <a:ext cx="720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COL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5580000" y="5040360"/>
            <a:ext cx="720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COLD 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4" descr=""/>
          <p:cNvPicPr/>
          <p:nvPr/>
        </p:nvPicPr>
        <p:blipFill>
          <a:blip r:embed="rId3"/>
          <a:stretch/>
        </p:blipFill>
        <p:spPr>
          <a:xfrm>
            <a:off x="4149720" y="5400720"/>
            <a:ext cx="171360" cy="1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6119640" y="1079640"/>
            <a:ext cx="3283200" cy="43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360360" y="1079640"/>
            <a:ext cx="5759280" cy="5040000"/>
          </a:xfrm>
          <a:prstGeom prst="rect">
            <a:avLst/>
          </a:prstGeom>
          <a:ln w="0">
            <a:noFill/>
          </a:ln>
        </p:spPr>
      </p:pic>
      <p:sp>
        <p:nvSpPr>
          <p:cNvPr id="98" name="Line 3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0000" y="360360"/>
            <a:ext cx="52196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M6550 ENMATIC ELECTRA EXP SENSOR T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720720" y="1440000"/>
            <a:ext cx="1440" cy="41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719280" y="2879640"/>
            <a:ext cx="5428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079640" y="2700360"/>
            <a:ext cx="5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2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119640" y="324000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1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12"/>
          <p:cNvCxnSpPr>
            <a:stCxn id="97" idx="3"/>
            <a:endCxn id="97" idx="3"/>
          </p:cNvCxnSpPr>
          <p:nvPr/>
        </p:nvCxnSpPr>
        <p:spPr>
          <a:xfrm rot="5400000">
            <a:off x="6118920" y="3600000"/>
            <a:ext cx="2520" cy="252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round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440000" y="360360"/>
            <a:ext cx="5400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1160L 1160MM 1&amp;3/4 LEFT HAND BOWL SINK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2"/>
          <a:stretch/>
        </p:blipFill>
        <p:spPr>
          <a:xfrm>
            <a:off x="2879640" y="1859040"/>
            <a:ext cx="3457800" cy="1380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3"/>
          <a:stretch/>
        </p:blipFill>
        <p:spPr>
          <a:xfrm>
            <a:off x="3060720" y="3240000"/>
            <a:ext cx="319068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2160720" y="2160720"/>
            <a:ext cx="2160360" cy="1979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3"/>
          <a:stretch/>
        </p:blipFill>
        <p:spPr>
          <a:xfrm>
            <a:off x="4941720" y="2160720"/>
            <a:ext cx="2617920" cy="23414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1440000" y="4680000"/>
            <a:ext cx="4186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  <a:ea typeface="Symbol"/>
              </a:rPr>
              <a:t>·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550x445mm, Bowl capacity 9 litr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  <a:ea typeface="Symbol"/>
              </a:rPr>
              <a:t>·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Supplied without overflo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  <a:ea typeface="Symbol"/>
              </a:rPr>
              <a:t>·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Includes flush-fitting white plug and wast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  <a:ea typeface="Symbol"/>
              </a:rPr>
              <a:t>·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Vitreous china, white on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440000" y="360360"/>
            <a:ext cx="5400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RAVELLE 550 S/R BAS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2"/>
          <a:stretch/>
        </p:blipFill>
        <p:spPr>
          <a:xfrm>
            <a:off x="1979640" y="2160720"/>
            <a:ext cx="2257560" cy="1981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3"/>
          <a:stretch/>
        </p:blipFill>
        <p:spPr>
          <a:xfrm>
            <a:off x="4943520" y="1979640"/>
            <a:ext cx="3157560" cy="2701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8"/>
          <p:cNvSpPr/>
          <p:nvPr/>
        </p:nvSpPr>
        <p:spPr>
          <a:xfrm>
            <a:off x="1440000" y="4751280"/>
            <a:ext cx="4186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  <a:ea typeface="Symbol"/>
              </a:rPr>
              <a:t>·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600x445mm, Bowl capacity 12 litr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  <a:ea typeface="Symbol"/>
              </a:rPr>
              <a:t>·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Supplied without overflo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  <a:ea typeface="Symbol"/>
              </a:rPr>
              <a:t>·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Includes flush-fitting white plug and wast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"/>
                <a:ea typeface="Symbol"/>
              </a:rPr>
              <a:t>· </a:t>
            </a:r>
            <a:r>
              <a:rPr b="0" lang="en-AU" sz="1300" spc="-1" strike="noStrike">
                <a:solidFill>
                  <a:srgbClr val="000000"/>
                </a:solidFill>
                <a:latin typeface="Arial"/>
              </a:rPr>
              <a:t>Vitreous china, white on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1440000" y="360360"/>
            <a:ext cx="5400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RAVELLE 600 VANITY BAS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5689440" y="2567160"/>
            <a:ext cx="2590920" cy="1933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1847880" y="1260360"/>
            <a:ext cx="2832120" cy="2076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"/>
          <p:cNvPicPr/>
          <p:nvPr/>
        </p:nvPicPr>
        <p:blipFill>
          <a:blip r:embed="rId4"/>
          <a:stretch/>
        </p:blipFill>
        <p:spPr>
          <a:xfrm>
            <a:off x="1800360" y="360036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9"/>
          <p:cNvSpPr/>
          <p:nvPr/>
        </p:nvSpPr>
        <p:spPr>
          <a:xfrm>
            <a:off x="1440000" y="360360"/>
            <a:ext cx="5400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ZIP HT1707 B240 HYDROT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"/>
          <p:cNvPicPr/>
          <p:nvPr/>
        </p:nvPicPr>
        <p:blipFill>
          <a:blip r:embed="rId1"/>
          <a:stretch/>
        </p:blipFill>
        <p:spPr>
          <a:xfrm>
            <a:off x="6934320" y="3564000"/>
            <a:ext cx="2209680" cy="27352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800360" y="1619280"/>
            <a:ext cx="6119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technical specifications presented are a guide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are for presentation and evaluation purposes, and are not official technical docu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specifications should be verified prior to construction or instal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MIOS takes no responsibility for installations done based upon these specific doc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2346480" y="30240"/>
            <a:ext cx="445104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NWSLM307A ORAS SAGA SINK MIXER 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1490760" y="900000"/>
            <a:ext cx="5710320" cy="364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5040360" y="3060720"/>
            <a:ext cx="410364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40000" y="360360"/>
            <a:ext cx="5580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WSGR023 GRAB RAIL 900MM S/S&amp; HAND SH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6840360" y="900000"/>
            <a:ext cx="1979640" cy="523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2654280" y="1079640"/>
            <a:ext cx="3286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440000" y="179280"/>
            <a:ext cx="5219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WSLM608 ORAS VEGA SINGLE LEVER   SHOWER MI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5815080" y="1440000"/>
            <a:ext cx="3186000" cy="420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1724040" y="1079640"/>
            <a:ext cx="34956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440000" y="179280"/>
            <a:ext cx="5219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WLEV80306 BASIN SET LEVER W/-SPC001 FIXED SPOUT ¼ C/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1440000" y="2340000"/>
            <a:ext cx="3958920" cy="34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4859280" y="900000"/>
            <a:ext cx="414036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40000" y="179280"/>
            <a:ext cx="5219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WLEV150306 BASIN SET W/-SPC001 ¼ TURN CERAMIC D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4680000" y="777960"/>
            <a:ext cx="445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1473120" y="3060720"/>
            <a:ext cx="41068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6659640" y="3495600"/>
            <a:ext cx="2624040" cy="2265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1260360" y="1197000"/>
            <a:ext cx="5335560" cy="4924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O2360-100 IFO CERA 600 NTH WALL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1"/>
          <p:cNvSpPr/>
          <p:nvPr/>
        </p:nvSpPr>
        <p:spPr>
          <a:xfrm>
            <a:off x="1447920" y="762120"/>
            <a:ext cx="7467480" cy="1440"/>
          </a:xfrm>
          <a:prstGeom prst="line">
            <a:avLst/>
          </a:prstGeom>
          <a:ln w="9360">
            <a:solidFill>
              <a:srgbClr val="fb1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73480" cy="5335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447920" y="6172200"/>
            <a:ext cx="76960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40000" y="360360"/>
            <a:ext cx="52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O4316FM2 IFO CERA SHRO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6480000" y="3511440"/>
            <a:ext cx="2498760" cy="242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2160720" y="2160720"/>
            <a:ext cx="3779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lenn Summers</dc:creator>
  <dc:description/>
  <dc:language>en-US</dc:language>
  <cp:lastModifiedBy>Glenn Summers</cp:lastModifiedBy>
  <dcterms:modified xsi:type="dcterms:W3CDTF">2014-10-06T02:58:58Z</dcterms:modified>
  <cp:revision>10</cp:revision>
  <dc:subject/>
  <dc:title>PowerPoint Presentation</dc:title>
</cp:coreProperties>
</file>